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97D-E596-4042-A4DF-3D06EF74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1EB-BA73-4D4F-A1A5-FA8D840B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9AE-BE60-43FC-A406-886AFBBF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82B-8BC0-49A3-AFB0-FCFA57BF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EAF1-92F5-4723-87D0-B723E1E2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4E8B-021C-4139-9C0D-CFEA15AA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3346-4F88-463A-8006-A03DAE90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CA7E-8D55-4143-A769-CE7D13DE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4E3A-E135-4086-A998-760D19C9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B18A-BA42-4DF7-810E-236ABF98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593B-FFDA-4CB9-8AC1-9461DB24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1E3-5720-4509-B872-FFE19522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D873-7BCD-4863-A7D4-11DA2368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1E31-AF7F-490A-BA08-9223CD7B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EDE8-92E1-441D-BDAE-3A81D30E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AECB-44FE-4B0F-AEAB-9F96741C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D2CB-960A-4509-9FA0-C6F4822B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029-EAE8-438D-A3D6-D9C89031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42B-72DB-47DB-A9E6-1E0E17B2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F03-B6C8-46E6-B542-F53B2DD1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92F-DB1A-4D2B-A0C9-F3A1EFFF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6F7-863A-4E8B-A4EE-9D4C79A3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D46-AE87-4A65-A004-70739F96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E6E-563C-45B2-A98A-705AF614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2F65-A93D-4543-A77F-A28E4FE0DF6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74EA-136D-4C41-92FD-0A6CE6F6C29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l Numbe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774960" y="2739960"/>
          <a:ext cx="1592280" cy="259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74960" y="2739960"/>
                    <a:ext cx="159228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-1252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0.45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-4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352680" y="2514600"/>
          <a:ext cx="2319480" cy="23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514600"/>
                    <a:ext cx="23194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r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1.75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76720" y="2514600"/>
          <a:ext cx="2547720" cy="226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2514600"/>
                    <a:ext cx="25477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-19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ahoma"/>
              </a:rPr>
              <a:t>1.23178…</a:t>
            </a:r>
            <a:endParaRPr b="0" lang="en-US" sz="1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r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27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00400" y="2590920"/>
          <a:ext cx="2624040" cy="23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590920"/>
                    <a:ext cx="262404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r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2.48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-24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819520" y="2365200"/>
          <a:ext cx="2819160" cy="252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365200"/>
                    <a:ext cx="2819160" cy="25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r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512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390840" y="1981080"/>
          <a:ext cx="114480" cy="16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0840" y="1981080"/>
                    <a:ext cx="1144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809880" y="2057400"/>
          <a:ext cx="1416240" cy="365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057400"/>
                    <a:ext cx="1416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2:36:57Z</dcterms:created>
  <dc:creator>Parkland High School</dc:creator>
  <dc:description/>
  <dc:language>en-US</dc:language>
  <cp:lastModifiedBy>Parkland High School</cp:lastModifiedBy>
  <dcterms:modified xsi:type="dcterms:W3CDTF">2010-09-28T12:57:49Z</dcterms:modified>
  <cp:revision>1</cp:revision>
  <dc:subject/>
  <dc:title>Real Numbers </dc:title>
</cp:coreProperties>
</file>